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F6F03-A719-42AE-B566-574DBEF78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7847A-AA20-4FD6-9FB9-F6C22769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2F83B-65B1-40F7-AE41-5EB5F145A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A069E-45B9-4DC1-A207-4927AD2C2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95BDA-642B-4E11-B150-FB808D1A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5325E-F390-4E43-B1D4-E03089C7D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3BD15-3735-426E-BBDB-4B78ADD1C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A979-00B3-4350-B7A6-A605B43F6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DB226-862A-44C0-B5A4-637BF14CF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FEBE-7A86-40E1-A24A-E72765A7B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A84D-FF9B-46FF-B524-36C1249DF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EA09-2E93-4981-AC45-397E2D6B2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85D9-FA2C-464F-AC7D-797E0C5CE0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268360" y="4437000"/>
            <a:ext cx="4819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2b2</cp:lastModifiedBy>
  <dcterms:modified xsi:type="dcterms:W3CDTF">2012-06-18T10:51:17Z</dcterms:modified>
  <cp:revision>39</cp:revision>
  <dc:subject/>
  <dc:title>SALARIUL</dc:title>
</cp:coreProperties>
</file>